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5FF-AE45-4424-8AA5-E518CF5B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157-ED66-421A-8F9B-2366FD0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584-107A-4604-8697-D068CB8E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9F1-6FF7-42BB-A8CB-3B7ECF82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D4E-79CB-4D40-930E-64EB2AA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19B-CB14-4C63-AE26-F283552A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3FE-47A2-4DE3-B51E-7E64C7D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84A-AD9F-4E58-92E0-370161B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EC7-0B40-438B-AF7D-FF95458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720-866E-44FF-946E-1171917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D0D-A1A9-4351-9156-AD17C13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684-759E-48F3-A5F3-A3033D4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3DF6-0DCF-4540-82B9-E6E143237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762120" y="914400"/>
            <a:ext cx="76197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figurantes semblent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a fois d’être  de face,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trois quart, de dos, et de profil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533520" y="914400"/>
            <a:ext cx="80769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 violentes, pures et vives,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éparées de la réalité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couleur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66680" y="990720"/>
            <a:ext cx="7086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ssai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rer un 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143000" y="990720"/>
            <a:ext cx="6400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e remise à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table rase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219320"/>
            <a:ext cx="73152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lland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u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219320"/>
            <a:ext cx="5943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el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106668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pañ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Du su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143000"/>
            <a:ext cx="6172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pañ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du nor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47920" y="1066680"/>
            <a:ext cx="6095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mém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ty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295280"/>
            <a:ext cx="52578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is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vign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752480" y="1066680"/>
            <a:ext cx="58676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m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Ja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143000" y="1371600"/>
            <a:ext cx="68580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e Ble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914400"/>
            <a:ext cx="6019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c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828800" y="1295280"/>
            <a:ext cx="54100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hit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600200" y="1219320"/>
            <a:ext cx="58672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1219320"/>
            <a:ext cx="6019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l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523880" y="1143000"/>
            <a:ext cx="5639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visa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219320"/>
            <a:ext cx="5867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1447920"/>
            <a:ext cx="6324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é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ent à 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143000" y="114300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n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fa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c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90720" y="1066680"/>
            <a:ext cx="70102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il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90720" y="1143000"/>
            <a:ext cx="67053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95280" y="1371600"/>
            <a:ext cx="64008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l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523880" y="1219320"/>
            <a:ext cx="6248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né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ça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05120" y="1600200"/>
            <a:ext cx="5257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miez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143000" y="1371600"/>
            <a:ext cx="6705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int Pa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371600" y="990720"/>
            <a:ext cx="6248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ataluña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pañ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in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éculiar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dro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2514600"/>
            <a:ext cx="6705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éculiartité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n sty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éfér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dro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990720" y="1295280"/>
            <a:ext cx="6933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bes cass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295280" y="1447920"/>
            <a:ext cx="6400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ore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ér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6019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à 31 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dipth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mousta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oubl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600200" y="1371600"/>
            <a:ext cx="5791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if, obsédé p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cènes de la 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600200" y="2057400"/>
            <a:ext cx="5943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752480" y="1828800"/>
            <a:ext cx="58676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295280" y="114300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u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vile en 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5790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hémien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servi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lit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Br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érn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am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371600" y="1143000"/>
            <a:ext cx="6629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oi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21932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istenc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ém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838080" y="91440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manche Après-mid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Ja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1219320"/>
            <a:ext cx="67057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c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143000" y="1905120"/>
            <a:ext cx="6629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l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523880" y="121932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ur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19320" y="1371600"/>
            <a:ext cx="6781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i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Cham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ugu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lin 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90720" y="1600200"/>
            <a:ext cx="71625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is à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990720"/>
            <a:ext cx="78483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pér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né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ça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 de Cim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N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12952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io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2819520" y="54100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Picture 5" descr="guernica.jpg"/>
          <p:cNvPicPr/>
          <p:nvPr/>
        </p:nvPicPr>
        <p:blipFill>
          <a:blip r:embed="rId1"/>
          <a:stretch/>
        </p:blipFill>
        <p:spPr>
          <a:xfrm>
            <a:off x="914400" y="1600200"/>
            <a:ext cx="760572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6" descr=""/>
          <p:cNvPicPr/>
          <p:nvPr/>
        </p:nvPicPr>
        <p:blipFill>
          <a:blip r:embed="rId2"/>
          <a:stretch/>
        </p:blipFill>
        <p:spPr>
          <a:xfrm>
            <a:off x="2584440" y="785880"/>
            <a:ext cx="420696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dali1.jpg"/>
          <p:cNvPicPr/>
          <p:nvPr/>
        </p:nvPicPr>
        <p:blipFill>
          <a:blip r:embed="rId1"/>
          <a:stretch/>
        </p:blipFill>
        <p:spPr>
          <a:xfrm>
            <a:off x="685800" y="914400"/>
            <a:ext cx="4495680" cy="5549760"/>
          </a:xfrm>
          <a:prstGeom prst="rect">
            <a:avLst/>
          </a:prstGeom>
          <a:ln w="0">
            <a:noFill/>
          </a:ln>
        </p:spPr>
      </p:pic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4334040" y="3571920"/>
            <a:ext cx="4133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752480" y="1752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3" descr="seurat_un_dimanche_a_l'ile_de_la_grande_jatt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562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gauguin_arearea.jpg"/>
          <p:cNvPicPr/>
          <p:nvPr/>
        </p:nvPicPr>
        <p:blipFill>
          <a:blip r:embed="rId1"/>
          <a:stretch/>
        </p:blipFill>
        <p:spPr>
          <a:xfrm>
            <a:off x="1143000" y="914400"/>
            <a:ext cx="7018200" cy="54403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236232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43828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2" name="Picture 3" descr="paintings-by-henri-de-toulouse-lautrec-2.jpg"/>
          <p:cNvPicPr/>
          <p:nvPr/>
        </p:nvPicPr>
        <p:blipFill>
          <a:blip r:embed="rId1"/>
          <a:stretch/>
        </p:blipFill>
        <p:spPr>
          <a:xfrm>
            <a:off x="1523880" y="1828800"/>
            <a:ext cx="5867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Musé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y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in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que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sée à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e trouvent les œuvr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ces artiste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nt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mpido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914400" y="1066680"/>
            <a:ext cx="7543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 ensemble de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ints de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 pure juxtaposés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2-05-06T10:23:56Z</dcterms:modified>
  <cp:revision>61</cp:revision>
  <dc:subject/>
  <dc:title>No Slide Title</dc:title>
</cp:coreProperties>
</file>